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864-4FCA-4F4D-B772-18F7F664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B73F-3700-498B-9539-45614793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D905-8C55-4FB9-A56F-FCE67C7F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C4A-4264-4CED-B1B6-9CFEB3BB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B9F-C2E1-4698-8465-E022CD6A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0D91-87DB-415E-A94B-284D35BF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535-B8BD-45FC-A595-402BB6DB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F68-89D4-42B1-A485-BF7E68F7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5B9-97F1-4C5F-B9C3-960DC510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F3A-BF46-42C6-81A7-59258E4C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9FF-2A8D-4B3E-9664-E34D3D51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1CD-B29E-467E-B6D3-53EB9508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39AD-EE8A-4F2A-B400-7B16F2B1B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268280"/>
            <a:ext cx="8281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Interreg IVA” = ETE 2007-2013 elvárá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alább 1 határon túli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sélyegyenlőség (legalább 2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nntartható fejlődés (legalább 3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ilingualism (HU-SK nyelvek haszná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özös fejlesztés, végrehajtás, menedzsment és finanszírozás (legalább 2 alkalmazá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Vezető partner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50920" y="1052640"/>
            <a:ext cx="84247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További elvá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elképzelés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inanszírozá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rtnerség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delegálása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ális költségvetés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ikátorok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rchiválás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395280" y="2943360"/>
          <a:ext cx="8280360" cy="32731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elős szervezet/ szemé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e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e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nőrzés formá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...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840680" y="1270080"/>
            <a:ext cx="52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nőségi tervezés = Good „</a:t>
            </a:r>
            <a:r>
              <a:rPr b="1" lang="sk-SK" sz="1800" spc="-1" strike="noStrike" u="sng">
                <a:solidFill>
                  <a:srgbClr val="ff3300"/>
                </a:solidFill>
                <a:uFillTx/>
                <a:latin typeface="Arial"/>
              </a:rPr>
              <a:t>time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“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68360" y="981000"/>
            <a:ext cx="828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re vigyázzunk a költségvetés tervezésénél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n jogo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3-7.5 sorok összege nem haladhatja meg az adott partner személyi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ámogatási arány megfelelő meghatározása (állami támogatás?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20920"/>
            <a:ext cx="8281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Állami támogatás (state aid)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 Közös Szakmai Titkárság direkt módon nem nyújt információkat a pályázott tevékenységek állami támogatás megvizsgálásának szempontjából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érjük keressé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Zsanett Katalin  (HU, ENG, 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talin.zsanett.magyar@nfu.gov.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De előtte...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anulmányozzák át a PÁLYÁZATI ÚTMUTATÓ-ban feltüntetett jogo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evékenységek listáját és hozzájuk rendelt jogcíme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Vezető Partner nyilatkoz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a nyomtatvány elérhető magyar VP-nek magyarul, szlovák VP-nek szlovákul) - nyomtatva, törvényes képviselő által aláírva és lepecséte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c0000"/>
                </a:solidFill>
                <a:latin typeface="Arial"/>
              </a:rPr>
              <a:t>Partnerségi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az összes támogatásban részesülő partner törvényes képviselője által aláírva)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va, törvényes képviselő által aláírva és lepecsét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. melléklet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nnyiben a partnerek az együttműködési kritériumok közül a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„Közös fejleszté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melléklet - A projek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fenntarthatósá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melléklet - Az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esélyegyenlőség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70600" y="1052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Értékelés me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12760" y="30924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8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423160" y="2852640"/>
            <a:ext cx="386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09:49Z</dcterms:created>
  <dc:creator>TorokZsolt</dc:creator>
  <dc:description/>
  <dc:language>en-US</dc:language>
  <cp:lastModifiedBy>TorokZsolt</cp:lastModifiedBy>
  <dcterms:modified xsi:type="dcterms:W3CDTF">2011-01-26T13:34:19Z</dcterms:modified>
  <cp:revision>117</cp:revision>
  <dc:subject/>
  <dc:title>1. dia</dc:title>
</cp:coreProperties>
</file>